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954838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6308640"/>
            <a:ext cx="289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ducational Research: Competencies for Analysis and Application, 9</a:t>
            </a:r>
            <a:r>
              <a:rPr b="0" i="1" lang="en-US" sz="1000" spc="-1" strike="noStrike" baseline="30000">
                <a:solidFill>
                  <a:srgbClr val="000000"/>
                </a:solidFill>
                <a:latin typeface="Tahoma"/>
                <a:ea typeface="ＭＳ Ｐゴシック"/>
              </a:rPr>
              <a:t>th</a:t>
            </a:r>
            <a:r>
              <a:rPr b="0" i="1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edi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ay, Mills, &amp; Airas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638680" y="6308640"/>
            <a:ext cx="221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© 2009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343400" y="630864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3E053-DD89-41A6-BD9C-DE1E23B97F06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352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861320" y="6308640"/>
            <a:ext cx="1130400" cy="4190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1143000" y="609480"/>
            <a:ext cx="7772400" cy="571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hapter 8: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Correlational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19320" y="20574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Courier New"/>
              </a:rPr>
              <a:t>Briefly state the purpose of correlational research, and describe the major steps involved in basic correlational researc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Courier New"/>
              </a:rPr>
              <a:t>Describe the size and direction of values associated with a correlation coefficient, and explain its relation to statistical significan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orrelational Research Proces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lation coeffic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lation coefficients range from –1 to 1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rrelation of 0 indicates no relationship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lation coefficients between +.35 and -.35 represent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wea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elationship 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elationship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orrelational Research Proces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lation coeffic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lation coefficients between +.35 and +.65 or between -.35 and -.65 represen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mode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elationship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lation coefficients between .65 and 1.0 or between -.65 and –1.0 represen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tro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elationship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Relationship Studi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urpose of relationship studies is to gain insight into variables or factors that are related to a complex variable (e.g., retention, academic achievement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onship studies help researchers to determine which variables may be suitable for future researc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Relationship Studi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onship studies provide insight into which variables should be controlled for in future causal-comparative or experimental studi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Relationship Studi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coll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archers first identify variables to be correlat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s should be purposely identifi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maller number of carefully identified variables is preferable to a larger number (e.g., shotgun approach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Relationship Studi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coll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identifying variables the researcher next identifies the appropriate population and sampling procedure to select participants for the stud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ome relationship studies data are collected all at one time or in several sessions conducted in close success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Relationship Studi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analysis and interpre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relationship studies scores from one variable are correlated with scores for another variable; or scores for several variables are correlated with a particular variable of intere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ult is a single correlation coefficient or a number of correlation coeffici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method of calculating a correlation coefficient depends upon the nature of the dat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Relationship Studi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analysis and interpre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lation coeffic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earso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efficient is the most common and most precise coefficient. Pearson r is used for continuous variab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pearman rho coefficient is appropriate to use when one of the variables are represented by rank-order data.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Relationship Studi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analysis and interpre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lation coeffic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h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efficient is used when both variables are expressed as a categorical dichotom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correlation coefficients are appropriate given characteristics of the data collected, sample size, and underlying data distributio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Kendall’s tau, Biserial, Point biserial, Tetrachoric, Intraclass, eta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Relationship Studi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analysis and interpre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ral factors may contribute to inaccurate estimates of relation among variabl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lying relationships that are curvilinear will effect coeffici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occurs when measures have low reliability and may provide inaccurate correlation coeffici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tricted range in scores generally leads to underestimates of rela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hapter 8: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Correlational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Courier New"/>
              </a:rPr>
              <a:t>State the major purposes of relationship studies, and 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  <a:ea typeface="Courier New"/>
              </a:rPr>
              <a:t>and identify and briefly describe the steps involved in conducting a relationship study and interpreting the data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the major purposes of prediction studies, and identify and briefly describe the steps involved in conducting a prediction study and interpreting the data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rediction Studi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wo variables are highly related, scores on one variable can be used to predict scores on the other varia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variable used to predict is called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edic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variable that is predicted is called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riter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rediction study is used to determine which variables are the most highly correlated with a criterion varia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one variable can be used to make predic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rediction Studi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rediction studies all measures should be valid measur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 especially critical that the criterion variable be validly measur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rediction studies, sometimes the predictor variables are administered prior to the criterion variable (e.g., SAT and university GPA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trition is a problem in some prediction studi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rediction Studi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coll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rinkage, or the tendency to find less accuracy in predicting criterion variables in subsequent samples, is often noted in prediction studi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-validation is the process of conducting subsequent prediction studies with new samples to verify effects found in an initial prediction stud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rediction Studi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analysis and interpre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rediction studies, data analysis involves correlating predictor variables with the criterion varia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single variable prediction equation i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= a+b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 Predicted criterion score for an individu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= An individual’s score on the predictor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= A constant calculated from scores of all participa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= A coefficient that indicates the contribution of the predictor variable to the criterion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rediction Studi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analysis and interpre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regression is used when a combination of variables is used to predict a criterion variable (e.g., Success in Algebra may be predicted by prior knowledge, prior achievement, aptitude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vening variables may lower prediction accuracy (e.g., teacher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mount of common variance shared by predictors is the squared correlation of the predictors and the criterion and is referred to as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efficient of determin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Other Correlation-Based Analys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criminate function analysis,  continuous variables are used to predict a categorical varia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onical analysis produces a correlation based upon a group of predictor variables and a group of criterion variab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analysis provides a diagram that illustrates how variables are related to one anoth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Other Correlation-Based Analys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al equation modeling, or LISREL, extends path analysis and predicts relations among variables with added precis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 analysis is used to decrease the number of variables under consideration by grouping variables into clusters called facto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Interpreting Correlation Coefficien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58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following considerations can assist researchers when interpreting correlation coefficient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s the proper correlation method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the variables have high reliabilities? Low reliabilities lower the chance of finding significant rela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the validity of the variables strong? Invalid variables produce meaningless resul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Interpreting Correlation Coefficien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the range of scores to be correlated restricted or extended? Narrow or restricted score ranges lower correlation coefficients, whereas broad or extended score ranges raise th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large is the sample? The larger the sample the smaller the value needed to reach statistical significance. Large samples may yield correlations that are statistically significant but practically unimportant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15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orrelational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urpose of correlational research is to determine the nature of relations among variables or to use these relations to make predic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lational studies often examine numerous variables believed to be related to complex variables (e.g., achievement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ated variables are discarded from future studies while those related may be examined further through causal-comparative or experimental studi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15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orrelational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correlations among variables do not imply causation (e.g., self-concept and achievement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lational procedures are also used to examine reliability and validit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orrelational Research Proces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em sel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lational studies are designed to explore whether and how variables are relat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lational studies are designed to test hypotheses regarding expected relations among variab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orrelational Research Proces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cipant and instrument sel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ples are derived from acceptable sampling method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ple must include at least 30 participan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reliability and validity of instrumentation is lower, sample size must be larg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orrelational Research Proces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and proced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lational studies share a simple design. Scores for two or more variables of interest are obtained for each member of the sample and these scores are then correlated (e.g., self-concept and achievement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orrelational Research Proces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analysis and interpre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eaning of a correlation coefficient will vary depending upon purpo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ple size effects the strength of a correlation coefficient.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correlation coefficients that are statistically significant may not represent meaningful signific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orrelational Research Proces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analysis and interpre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lation coefficients do not represent percentage of relation between variab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quare of the correlation coefficient indicates the amount of variance shared by the variables (shared variance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a correlation of .50 indicates 25% shared variance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ristina Robb</cp:lastModifiedBy>
  <dcterms:modified xsi:type="dcterms:W3CDTF">2008-05-15T21:10:07Z</dcterms:modified>
  <cp:revision>90</cp:revision>
  <dc:subject/>
  <dc:title>AutoCAD Architecture 2008: Part I: Getting Started</dc:title>
</cp:coreProperties>
</file>